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43206988"/>
  <p:notesSz cx="9882188" cy="1431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C5D-BD3F-4686-A310-29C44E46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2915892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5400" y="24975000"/>
            <a:ext cx="2915892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0B2-B588-47F1-B868-54E7CD2D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540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648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213-816A-4DFB-8A7F-261F82EC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4000" y="1007712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2600" y="1007712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5400" y="2497500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4000" y="2497500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2600" y="24975000"/>
            <a:ext cx="938880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784-D1F8-4D6B-9C11-E134F49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5400" y="10077120"/>
            <a:ext cx="29158920" cy="28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67A-27F2-493F-80E8-1D807F6A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2915892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A03-D733-4A04-9959-55BA533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563-10A3-441B-92A7-CC504601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C6E-441C-4C95-BED4-B56DF47E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5400" y="1735200"/>
            <a:ext cx="29158920" cy="333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DA3-BC13-406E-A49F-582B7D2E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540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D59-A3AF-4DDB-8B60-96D0864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6480" y="2497500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0C7-E4FD-49A4-8CD1-704DECA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40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6480" y="10077120"/>
            <a:ext cx="1422936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5400" y="24975000"/>
            <a:ext cx="29158920" cy="136051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319640"/>
                <a:tab algn="l" pos="863928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8AC-AA65-47A4-82B1-3F789BF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5400" y="1735200"/>
            <a:ext cx="29158920" cy="71978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19640"/>
                <a:tab algn="l" pos="8639280"/>
              </a:tabLst>
            </a:pPr>
            <a:r>
              <a:rPr b="0" lang="en-US" sz="2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5400" y="10077120"/>
            <a:ext cx="29158920" cy="285224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17840" indent="-1617840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1" marL="3510000" indent="-1352520">
              <a:spcBef>
                <a:spcPts val="3750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2" marL="5400720" indent="-1081080"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3" marL="7558200" indent="-1081080">
              <a:spcBef>
                <a:spcPts val="3750"/>
              </a:spcBef>
              <a:buClr>
                <a:srgbClr val="000000"/>
              </a:buClr>
              <a:buFont typeface="Arial"/>
              <a:buChar char="–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4" marL="9721800" indent="-1081080">
              <a:spcBef>
                <a:spcPts val="3750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5" marL="9721800" indent="-1081080">
              <a:spcBef>
                <a:spcPts val="3750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lvl="6" marL="9721800" indent="-1081080">
              <a:spcBef>
                <a:spcPts val="3750"/>
              </a:spcBef>
              <a:buClr>
                <a:srgbClr val="000000"/>
              </a:buClr>
              <a:buFont typeface="Arial"/>
              <a:buChar char="»"/>
              <a:tabLst>
                <a:tab algn="l" pos="4319640"/>
                <a:tab algn="l" pos="863928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5400" y="39341520"/>
            <a:ext cx="755316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6120" y="39341520"/>
            <a:ext cx="1025208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4680" y="39341520"/>
            <a:ext cx="755964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52A-AC2D-4402-8CD5-0C857C777711}" type="slidenum">
              <a:rPr b="0" lang="es-ES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2"/>
          <p:cNvSpPr/>
          <p:nvPr/>
        </p:nvSpPr>
        <p:spPr>
          <a:xfrm>
            <a:off x="0" y="0"/>
            <a:ext cx="32403960" cy="43205400"/>
          </a:xfrm>
          <a:prstGeom prst="rect">
            <a:avLst/>
          </a:prstGeom>
          <a:solidFill>
            <a:srgbClr val="fff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2040" rIns="392040" tIns="195840" bIns="195840" anchor="ctr">
            <a:noAutofit/>
          </a:bodyPr>
          <a:p>
            <a:pPr algn="ctr">
              <a:tabLst>
                <a:tab algn="l" pos="0"/>
                <a:tab algn="l" pos="3917880"/>
                <a:tab algn="l" pos="783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cabecera poster LIME.jpg"/>
          <p:cNvPicPr/>
          <p:nvPr/>
        </p:nvPicPr>
        <p:blipFill>
          <a:blip r:embed="rId1"/>
          <a:stretch/>
        </p:blipFill>
        <p:spPr>
          <a:xfrm>
            <a:off x="0" y="0"/>
            <a:ext cx="32403960" cy="4280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0" y="0"/>
            <a:ext cx="32403960" cy="42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8300" spc="-1" strike="noStrike">
                <a:solidFill>
                  <a:srgbClr val="ffffff"/>
                </a:solidFill>
                <a:latin typeface="Univers"/>
              </a:rPr>
              <a:t>TÍTULO / TiTL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76160" y="4464000"/>
            <a:ext cx="307580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i="1" lang="es-ES_tradnl" sz="3900" spc="-1" strike="noStrike">
                <a:solidFill>
                  <a:srgbClr val="333399"/>
                </a:solidFill>
                <a:latin typeface="Univers"/>
              </a:rPr>
              <a:t>Autores / Autho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76160" y="5451480"/>
            <a:ext cx="307580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i="1" lang="es-ES_tradnl" sz="3900" spc="-1" strike="noStrike">
                <a:solidFill>
                  <a:srgbClr val="333399"/>
                </a:solidFill>
                <a:latin typeface="Univers"/>
              </a:rPr>
              <a:t>Filiación / Mai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6697800"/>
            <a:ext cx="10952280" cy="1209240"/>
          </a:xfrm>
          <a:prstGeom prst="rect">
            <a:avLst/>
          </a:prstGeom>
          <a:solidFill>
            <a:srgbClr val="fb9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OBJETIVOS / OBJECTIV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572920" y="6697800"/>
            <a:ext cx="20831040" cy="1209240"/>
          </a:xfrm>
          <a:prstGeom prst="rect">
            <a:avLst/>
          </a:prstGeom>
          <a:solidFill>
            <a:srgbClr val="73b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MÉTODOS / METHOD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31640" y="8353440"/>
            <a:ext cx="10520640" cy="1026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1572920" y="8359920"/>
            <a:ext cx="20054880" cy="1026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1452040" y="34713720"/>
            <a:ext cx="10175760" cy="57816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39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76160" y="34728120"/>
            <a:ext cx="20054880" cy="56739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1452040" y="33332760"/>
            <a:ext cx="10951920" cy="1209240"/>
          </a:xfrm>
          <a:prstGeom prst="rect">
            <a:avLst/>
          </a:prstGeom>
          <a:solidFill>
            <a:srgbClr val="fb9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REFERENCIAS / References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776160" y="20370960"/>
            <a:ext cx="15428880" cy="115707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Univers"/>
              </a:rPr>
              <a:t>Gráficos y tablas / Graphs and tab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6706880" y="21602880"/>
            <a:ext cx="14920920" cy="10260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imes New Roman"/>
              </a:rPr>
              <a:t>Texto / Tex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3"/>
          <p:cNvSpPr/>
          <p:nvPr/>
        </p:nvSpPr>
        <p:spPr>
          <a:xfrm>
            <a:off x="16633800" y="20177280"/>
            <a:ext cx="15770160" cy="1220760"/>
          </a:xfrm>
          <a:prstGeom prst="rect">
            <a:avLst/>
          </a:prstGeom>
          <a:solidFill>
            <a:srgbClr val="c413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2"/>
          <p:cNvSpPr/>
          <p:nvPr/>
        </p:nvSpPr>
        <p:spPr>
          <a:xfrm>
            <a:off x="19081800" y="20250000"/>
            <a:ext cx="1216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RESULTADOS / Result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5"/>
          <p:cNvSpPr/>
          <p:nvPr/>
        </p:nvSpPr>
        <p:spPr>
          <a:xfrm>
            <a:off x="0" y="33196320"/>
            <a:ext cx="20810520" cy="1220760"/>
          </a:xfrm>
          <a:prstGeom prst="rect">
            <a:avLst/>
          </a:prstGeom>
          <a:solidFill>
            <a:srgbClr val="007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0" rIns="43200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19640"/>
                <a:tab algn="l" pos="86392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6"/>
          <p:cNvSpPr/>
          <p:nvPr/>
        </p:nvSpPr>
        <p:spPr>
          <a:xfrm>
            <a:off x="5113440" y="33340680"/>
            <a:ext cx="1051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100" spc="-1" strike="noStrike">
                <a:solidFill>
                  <a:srgbClr val="ffffff"/>
                </a:solidFill>
                <a:latin typeface="Univers"/>
              </a:rPr>
              <a:t>CONCLUSIONES / Conclusion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29:53Z</dcterms:created>
  <dc:creator>Joker</dc:creator>
  <dc:description/>
  <dc:language>en-US</dc:language>
  <cp:lastModifiedBy>Quique-GExCALL</cp:lastModifiedBy>
  <dcterms:modified xsi:type="dcterms:W3CDTF">2015-01-13T13:43:39Z</dcterms:modified>
  <cp:revision>34</cp:revision>
  <dc:subject/>
  <dc:title>Diapositiva 1</dc:title>
</cp:coreProperties>
</file>