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43206988"/>
  <p:notesSz cx="9882188" cy="14312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C43-A5CA-4CCF-88A2-E4DF85D9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2915892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5400" y="24975000"/>
            <a:ext cx="2915892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C0B-D9B5-496A-9071-CA5A9C6F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6480" y="1007712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5400" y="2497500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6480" y="2497500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7B0-BA54-4346-ACD4-8FBD3E87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938880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4000" y="10077120"/>
            <a:ext cx="938880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2600" y="10077120"/>
            <a:ext cx="938880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5400" y="24975000"/>
            <a:ext cx="938880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4000" y="24975000"/>
            <a:ext cx="938880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2600" y="24975000"/>
            <a:ext cx="938880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104-441A-44B1-8899-FCCF7D4A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5400" y="10077120"/>
            <a:ext cx="29158920" cy="28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50"/>
              </a:spcBef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61E-BCF3-4B2C-86DC-A85087BC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29158920" cy="285224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59D-ECB7-4552-BEF8-1805BCCA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14229360" cy="285224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6480" y="10077120"/>
            <a:ext cx="14229360" cy="285224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0A3-B470-4677-AF51-EB944F30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D6D-11D0-4F87-BDB2-11289BA1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5400" y="1735200"/>
            <a:ext cx="29158920" cy="33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27D-68AF-47C4-8014-584802DA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6480" y="10077120"/>
            <a:ext cx="14229360" cy="285224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5400" y="2497500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18B-BAFB-4EEC-9D03-14FA9FBE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14229360" cy="285224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6480" y="1007712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6480" y="2497500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6B4-0387-45C4-884A-97150052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6480" y="1007712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5400" y="24975000"/>
            <a:ext cx="2915892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E62-AE4E-46F4-90DC-B4DF3338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en-US" sz="2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5400" y="10077120"/>
            <a:ext cx="29158920" cy="285224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7840" indent="-1617840"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lvl="1" marL="3510000" indent="-1352520">
              <a:spcBef>
                <a:spcPts val="3750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lvl="2" marL="5400720" indent="-1081080"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lvl="3" marL="7558200" indent="-1081080">
              <a:spcBef>
                <a:spcPts val="3750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lvl="4" marL="9721800" indent="-1081080">
              <a:spcBef>
                <a:spcPts val="3750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lvl="5" marL="9721800" indent="-1081080">
              <a:spcBef>
                <a:spcPts val="3750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lvl="6" marL="9721800" indent="-1081080">
              <a:spcBef>
                <a:spcPts val="3750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5400" y="39341520"/>
            <a:ext cx="7553160" cy="30002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6120" y="39341520"/>
            <a:ext cx="10252080" cy="30002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4680" y="39341520"/>
            <a:ext cx="7559640" cy="30002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22A6-E2C8-4443-A941-BD82B02B8D1A}" type="slidenum">
              <a:rPr b="0" lang="es-ES" sz="6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2"/>
          <p:cNvSpPr/>
          <p:nvPr/>
        </p:nvSpPr>
        <p:spPr>
          <a:xfrm>
            <a:off x="0" y="0"/>
            <a:ext cx="32403960" cy="43205400"/>
          </a:xfrm>
          <a:prstGeom prst="rect">
            <a:avLst/>
          </a:prstGeom>
          <a:solidFill>
            <a:srgbClr val="fff7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2040" rIns="392040" tIns="195840" bIns="195840" anchor="ctr">
            <a:noAutofit/>
          </a:bodyPr>
          <a:p>
            <a:pPr algn="ctr">
              <a:tabLst>
                <a:tab algn="l" pos="0"/>
                <a:tab algn="l" pos="3917880"/>
                <a:tab algn="l" pos="7835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4" descr="cabecera poster LIME.jpg"/>
          <p:cNvPicPr/>
          <p:nvPr/>
        </p:nvPicPr>
        <p:blipFill>
          <a:blip r:embed="rId1"/>
          <a:stretch/>
        </p:blipFill>
        <p:spPr>
          <a:xfrm>
            <a:off x="0" y="0"/>
            <a:ext cx="32403960" cy="42800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0" y="0"/>
            <a:ext cx="32403960" cy="42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8300" spc="-1" strike="noStrike">
                <a:solidFill>
                  <a:srgbClr val="ffffff"/>
                </a:solidFill>
                <a:latin typeface="Univers"/>
              </a:rPr>
              <a:t>TÍTULO / TiTL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76160" y="4464000"/>
            <a:ext cx="3075804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i="1" lang="es-ES_tradnl" sz="3900" spc="-1" strike="noStrike">
                <a:solidFill>
                  <a:srgbClr val="333399"/>
                </a:solidFill>
                <a:latin typeface="Univers"/>
              </a:rPr>
              <a:t>Autores / Author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76160" y="5451480"/>
            <a:ext cx="3075804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i="1" lang="es-ES_tradnl" sz="3900" spc="-1" strike="noStrike">
                <a:solidFill>
                  <a:srgbClr val="333399"/>
                </a:solidFill>
                <a:latin typeface="Univers"/>
              </a:rPr>
              <a:t>Filiación / Mai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0" y="6697800"/>
            <a:ext cx="10952280" cy="1209240"/>
          </a:xfrm>
          <a:prstGeom prst="rect">
            <a:avLst/>
          </a:prstGeom>
          <a:solidFill>
            <a:srgbClr val="fb9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5100" spc="-1" strike="noStrike">
                <a:solidFill>
                  <a:srgbClr val="ffffff"/>
                </a:solidFill>
                <a:latin typeface="Univers"/>
              </a:rPr>
              <a:t>OBJETIVOS / OBJECTIVE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1572920" y="6697800"/>
            <a:ext cx="20831040" cy="1209240"/>
          </a:xfrm>
          <a:prstGeom prst="rect">
            <a:avLst/>
          </a:prstGeom>
          <a:solidFill>
            <a:srgbClr val="73b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5100" spc="-1" strike="noStrike">
                <a:solidFill>
                  <a:srgbClr val="ffffff"/>
                </a:solidFill>
                <a:latin typeface="Univers"/>
              </a:rPr>
              <a:t>MÉTODOS / METHOD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31640" y="8353440"/>
            <a:ext cx="10520640" cy="10260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s-ES_tradnl" sz="4300" spc="-1" strike="noStrike">
                <a:solidFill>
                  <a:srgbClr val="333399"/>
                </a:solidFill>
                <a:latin typeface="Times New Roman"/>
              </a:rPr>
              <a:t>Texto / Tex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1572920" y="8359920"/>
            <a:ext cx="20054880" cy="10260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s-ES_tradnl" sz="4300" spc="-1" strike="noStrike">
                <a:solidFill>
                  <a:srgbClr val="333399"/>
                </a:solidFill>
                <a:latin typeface="Times New Roman"/>
              </a:rPr>
              <a:t>Texto / Tex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1452040" y="34713720"/>
            <a:ext cx="10175760" cy="57816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s-ES_tradnl" sz="3900" spc="-1" strike="noStrike">
                <a:solidFill>
                  <a:srgbClr val="333399"/>
                </a:solidFill>
                <a:latin typeface="Times New Roman"/>
              </a:rPr>
              <a:t>Texto / Tex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76160" y="34728120"/>
            <a:ext cx="20054880" cy="56739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s-ES_tradnl" sz="4300" spc="-1" strike="noStrike">
                <a:solidFill>
                  <a:srgbClr val="333399"/>
                </a:solidFill>
                <a:latin typeface="Times New Roman"/>
              </a:rPr>
              <a:t>Texto / Tex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21452040" y="33332760"/>
            <a:ext cx="10951920" cy="1209240"/>
          </a:xfrm>
          <a:prstGeom prst="rect">
            <a:avLst/>
          </a:prstGeom>
          <a:solidFill>
            <a:srgbClr val="fb9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5100" spc="-1" strike="noStrike">
                <a:solidFill>
                  <a:srgbClr val="ffffff"/>
                </a:solidFill>
                <a:latin typeface="Univers"/>
              </a:rPr>
              <a:t>REFERENCIAS / References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776160" y="20370960"/>
            <a:ext cx="15428880" cy="115707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s-ES_tradnl" sz="4300" spc="-1" strike="noStrike">
                <a:solidFill>
                  <a:srgbClr val="333399"/>
                </a:solidFill>
                <a:latin typeface="Univers"/>
              </a:rPr>
              <a:t>Gráficos y tablas / Graphs and tabl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16706880" y="21602880"/>
            <a:ext cx="14920920" cy="10260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s-ES_tradnl" sz="4300" spc="-1" strike="noStrike">
                <a:solidFill>
                  <a:srgbClr val="333399"/>
                </a:solidFill>
                <a:latin typeface="Times New Roman"/>
              </a:rPr>
              <a:t>Texto / Tex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3"/>
          <p:cNvSpPr/>
          <p:nvPr/>
        </p:nvSpPr>
        <p:spPr>
          <a:xfrm>
            <a:off x="16633800" y="20177280"/>
            <a:ext cx="15770160" cy="1220760"/>
          </a:xfrm>
          <a:prstGeom prst="rect">
            <a:avLst/>
          </a:prstGeom>
          <a:solidFill>
            <a:srgbClr val="c413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2"/>
          <p:cNvSpPr/>
          <p:nvPr/>
        </p:nvSpPr>
        <p:spPr>
          <a:xfrm>
            <a:off x="19081800" y="20250000"/>
            <a:ext cx="1216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100" spc="-1" strike="noStrike">
                <a:solidFill>
                  <a:srgbClr val="ffffff"/>
                </a:solidFill>
                <a:latin typeface="Univers"/>
              </a:rPr>
              <a:t>RESULTADOS / Result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5"/>
          <p:cNvSpPr/>
          <p:nvPr/>
        </p:nvSpPr>
        <p:spPr>
          <a:xfrm>
            <a:off x="0" y="33196320"/>
            <a:ext cx="20810520" cy="1220760"/>
          </a:xfrm>
          <a:prstGeom prst="rect">
            <a:avLst/>
          </a:prstGeom>
          <a:solidFill>
            <a:srgbClr val="007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6"/>
          <p:cNvSpPr/>
          <p:nvPr/>
        </p:nvSpPr>
        <p:spPr>
          <a:xfrm>
            <a:off x="5113440" y="33340680"/>
            <a:ext cx="1051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100" spc="-1" strike="noStrike">
                <a:solidFill>
                  <a:srgbClr val="ffffff"/>
                </a:solidFill>
                <a:latin typeface="Univers"/>
              </a:rPr>
              <a:t>CONCLUSIONES / Conclusion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8:29:53Z</dcterms:created>
  <dc:creator>Joker</dc:creator>
  <dc:description/>
  <dc:language>en-US</dc:language>
  <cp:lastModifiedBy>Quique-GExCALL</cp:lastModifiedBy>
  <dcterms:modified xsi:type="dcterms:W3CDTF">2015-01-13T13:43:39Z</dcterms:modified>
  <cp:revision>34</cp:revision>
  <dc:subject/>
  <dc:title>Diapositiva 1</dc:title>
</cp:coreProperties>
</file>